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C775-E0D6-403F-BB68-696D8EB33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6D05-CFBA-422A-8CD2-5E0D0526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889C-3139-4CF1-8B56-CFDB66B19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A0A1-FC03-4F85-B396-3661BA35E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DC48-5B16-4145-8149-3A6BFE6D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6C55-647C-4214-A473-F6E2D9A9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697C-270C-4275-9B8F-8AEF3B92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766D-AF77-495E-A1D6-29FE9130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0566-2C63-4B08-B793-D9CF7E67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9270-B632-4E56-B549-B8EBEEB1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AF3B-B273-44E4-8F3D-1C3EB10E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E0A0-7E35-4884-998E-1136C915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Box 7"/>
          <p:cNvSpPr/>
          <p:nvPr/>
        </p:nvSpPr>
        <p:spPr>
          <a:xfrm>
            <a:off x="961920" y="708120"/>
            <a:ext cx="1204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</a:rPr>
              <a:t>MINISTRSTVO ZA </a:t>
            </a: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FINANCE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URAD REPUBLIKE SLOVENIJE ZA NADZOR PRORAČUN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83AE-1811-4736-A9A1-38E1488501BF}" type="datetime">
              <a:rPr b="0" lang="en-US" sz="1200" spc="-1" strike="noStrike">
                <a:solidFill>
                  <a:srgbClr val="bababa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31672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0D7A-D5FE-4CF7-B2BF-4579C355D7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78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oročilo revizijskega organa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3908520"/>
            <a:ext cx="64008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. seja nadzornega odbora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ČV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jubljana, 28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teja Vetrih</a:t>
            </a:r>
            <a:endParaRPr b="0" lang="en-US" sz="1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E352-6BE0-41B9-BB9C-A2B39F9E30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A8E9-A0DB-445B-8A6C-731A049C7E82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773360"/>
          <a:ext cx="8229600" cy="4176360"/>
        </p:xfrm>
        <a:graphic>
          <a:graphicData uri="http://schemas.openxmlformats.org/drawingml/2006/table">
            <a:tbl>
              <a:tblPr/>
              <a:tblGrid>
                <a:gridCol w="2027160"/>
                <a:gridCol w="2951280"/>
                <a:gridCol w="3251160"/>
              </a:tblGrid>
              <a:tr h="111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rativni program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tevilo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ERACIJ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ki so imele v letu 2012 certificirane izdat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rtificirana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REDNOS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operacij v letu 2012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R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9.766.899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 RČV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.528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44.950.040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OPI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.886.533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aj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.08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69.603.47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5" name="Rectangle 100"/>
          <p:cNvSpPr/>
          <p:nvPr/>
        </p:nvSpPr>
        <p:spPr>
          <a:xfrm>
            <a:off x="2556000" y="549360"/>
            <a:ext cx="6130800" cy="8683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4C99-67BB-4D40-AB40-B9071A8CC1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3CA1-24F0-4221-B4AD-8B6AC980063B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2195640" y="620640"/>
            <a:ext cx="6553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 statist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 (MUS) vzorec izbranih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7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peracij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45 operacij OP RR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16 operacij OP RČV</a:t>
            </a:r>
            <a:r>
              <a:rPr b="0" lang="en-US" sz="32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2 operacije OP ROPI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vidiran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vredn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skupaj: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105.636.349 €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9575-FB22-4071-9690-9B4EB10CAB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2340000" y="69228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2" name="Content Placeholder 20"/>
          <p:cNvSpPr/>
          <p:nvPr/>
        </p:nvSpPr>
        <p:spPr>
          <a:xfrm>
            <a:off x="611280" y="1628640"/>
            <a:ext cx="8123040" cy="46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APAK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naključ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slučajne)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sistematičn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be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jemne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pake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R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OPI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zanemarljiv delež napak na OP RČV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previsoki izdatki za plače, nepravilni izračuni stroška dela)</a:t>
            </a:r>
            <a:endParaRPr b="0" lang="en-US" sz="2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F74D-26DA-4FC2-9E9B-EA797AEC26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55640" y="2924280"/>
          <a:ext cx="7858080" cy="2376360"/>
        </p:xfrm>
        <a:graphic>
          <a:graphicData uri="http://schemas.openxmlformats.org/drawingml/2006/table">
            <a:tbl>
              <a:tblPr/>
              <a:tblGrid>
                <a:gridCol w="1306080"/>
                <a:gridCol w="1815840"/>
                <a:gridCol w="1802160"/>
                <a:gridCol w="1442160"/>
                <a:gridCol w="1491840"/>
              </a:tblGrid>
              <a:tr h="85716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evilo revidiranih operacij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dirana vrednost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ednost napake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napa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7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81.8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3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9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OP RČV *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649.570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9.39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4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OP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50.9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30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8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66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Skupaj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8.482.41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79.08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0,93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6" name="Rectangle 3"/>
          <p:cNvSpPr/>
          <p:nvPr/>
        </p:nvSpPr>
        <p:spPr>
          <a:xfrm>
            <a:off x="611280" y="1600200"/>
            <a:ext cx="799308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Revizije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dodatnih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2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operacij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63180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  <a:tab algn="l" pos="5033880"/>
                <a:tab algn="l" pos="527364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dopolnil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, izvedel zunanji izvajalec –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KPMG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55371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* ugotovljena nepravilnost pri mladem raziskovalcu, ki je uveljavljal neupravičene stroške izobraževanja in tudi ni doktoriral v roku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F1CD-496B-4B5E-ACB3-D69E04127A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topnj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apake 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jbolj verjetn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,80%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rejemljiv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,00%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rednos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napak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16000" y="4781520"/>
          <a:ext cx="6985080" cy="1095480"/>
        </p:xfrm>
        <a:graphic>
          <a:graphicData uri="http://schemas.openxmlformats.org/drawingml/2006/table">
            <a:tbl>
              <a:tblPr/>
              <a:tblGrid>
                <a:gridCol w="4105440"/>
                <a:gridCol w="287964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na projicirana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najbolj verjetna napaka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rejemljiva (dopustna)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92.069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947C-0CFE-4EE1-B2F2-F8CEEC4DE6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89C7-2612-4B66-BF78-21D434C3117B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268360" y="18900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č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95280" y="1773360"/>
            <a:ext cx="87487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 u="sng">
                <a:solidFill>
                  <a:srgbClr val="000000"/>
                </a:solidFill>
                <a:uFillTx/>
                <a:latin typeface="Calibri"/>
              </a:rPr>
              <a:t>Korektivni ukrepi OU in PO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5 % finančna korekcija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na PU “turizem”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2.774.693 €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-   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samokorekcija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nad 2 % dopustne napak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3.700.000 €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 flipV="1" rot="10800000">
            <a:off x="249120" y="5012280"/>
            <a:ext cx="889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NAJBOLJ VERJETNA NAPAKA &lt; DOPUSTNA NAPA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MNENJE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BREZ PRIDRŽ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FDF3-3BBD-4955-94CD-05B9FE24C5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EA75-C475-42AE-AEE4-199E29403063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8AA9-A99B-4916-A40A-DCD69F31E564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2268360" y="260280"/>
            <a:ext cx="6407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no poročilo o nadzor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mnenje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268360" y="26028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č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468360" y="1844640"/>
            <a:ext cx="82803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Korespondenca RO z EK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LP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slano EK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31.12.2013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Postopek ustavitve plačil za OP RR in OP ROPI: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6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DG EMPL obravnava OP RČV posebej in ne zahteva zaustavitve plačil/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Ocena EK o sprejemljivosti LPN: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0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819B-F266-442A-B198-68C7ECC8F6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95280" y="765000"/>
            <a:ext cx="649116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Aktualno v l. 2014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Revizije operacij za izdatke, certificirane leta 2013 - v izvajanju revizije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74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, od tega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39 OP RR , 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16 OP RČV</a:t>
            </a:r>
            <a:r>
              <a:rPr b="0" lang="sl-SI" sz="2400" spc="-1" strike="noStrike">
                <a:solidFill>
                  <a:srgbClr val="999999"/>
                </a:solidFill>
                <a:latin typeface="Calibri"/>
              </a:rPr>
              <a:t> in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19 OP ROPI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Dodat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 revizij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25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sourcing)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apovedane so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3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revizije EK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(D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) v Sloveniji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junij: OP RR (izbor operacij in upravičenost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eptember: OP ROPI (javna naročila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ktober: PO, OU (izterjave nepravilnosti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781C-1F30-42A9-B40F-6482BA6313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4000" spc="-1" strike="noStrike">
                <a:solidFill>
                  <a:srgbClr val="0000ff"/>
                </a:solidFill>
                <a:latin typeface="Calibri"/>
              </a:rPr>
              <a:t>Hvala za pozornost</a:t>
            </a:r>
            <a:r>
              <a:rPr b="1" lang="sl-SI" sz="3600" spc="-1" strike="noStrike">
                <a:solidFill>
                  <a:srgbClr val="0000ff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Urad RS za nadzor proračuna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alibri"/>
              </a:rPr>
              <a:t>Revizijski organ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Fajfarjeva 33,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502 Ljubljana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ff"/>
                </a:solidFill>
                <a:latin typeface="Arial"/>
              </a:rPr>
              <a:t>Mateja Vetrih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, Sektor za revizijo evropskih strukturnih skladov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T: 01 369 69 39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www.unp.gov.si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860B-CBAC-4F1D-B1E8-CE519A9D49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11280" y="764640"/>
            <a:ext cx="621216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Naloge revizijskega organ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sistem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operacij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no poročilo o nadzoru in mnenje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0FFF-F735-45E5-85AC-499ECE03CD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116000" y="1484280"/>
            <a:ext cx="741672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vedene revizije sistema d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ja 201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SVLR (jul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za potrjevanje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VZT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ŠŠ (mar. 2010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G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DDSZ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MGRT (feb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IZKŠ (apr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600" spc="-1" strike="noStrike">
                <a:solidFill>
                  <a:srgbClr val="0000ff"/>
                </a:solidFill>
                <a:latin typeface="Calibri"/>
              </a:rPr>
              <a:t>MNZ 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(dec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A3C8-BF8B-4603-BB0A-170CF7A152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zveden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aknad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vizije sistema in pregledi izpolnjevanja priporočil do maja 201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 (mar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VZT (mar. 2010, sept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 (jul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ŠŠ (jan. 2012, jan. 2013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G (dec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DDSZ (dec. 2011, dec. 2012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OU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MGRT 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MIZKŠ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571A-4CE0-46EC-8244-47FFE1F4C8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40000" y="634680"/>
            <a:ext cx="63468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upaj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izdanih PRIPOROČI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z revizij: 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50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ŠE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ODPR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RIPOROČILA (za OP RČV):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 upravljanja (OU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IZKŠ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T MNZ :                                            2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32CD94-B3EC-4770-9F96-A1C44FD54D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114640" y="380880"/>
            <a:ext cx="6675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pred spremembo</a:t>
            </a: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5440" y="1417680"/>
            <a:ext cx="83613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D70A62-7DCD-4E03-ABCC-AD47832110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13120" y="274320"/>
            <a:ext cx="66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o spremembi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993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842E-C5FE-48C1-909C-3C06E3F2DF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FE66-11EF-458F-A086-39983C34B499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268360" y="692280"/>
            <a:ext cx="634716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atik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talnih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prememb sistem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O je pripravil novo analizo tveganj za vsa PT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 je zopet pripravil novo revizijsko strategijo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a začetku leta 2014 dokumenta poslana na EK) </a:t>
            </a:r>
            <a:r>
              <a:rPr b="0" lang="en-US" sz="24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4D5A-152B-454D-AEAE-FC9CA52A93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40000" y="764640"/>
            <a:ext cx="6346800" cy="6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SNOVE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zdatki, potrjeni v koledarskem letu 201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upna ocena sistema - kategorij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stično vzorčenje - MUS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 vzorec z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vse tri OP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07:29:29Z</dcterms:created>
  <dc:creator>Roman Rojko</dc:creator>
  <dc:description/>
  <dc:language>en-US</dc:language>
  <cp:lastModifiedBy>Jure Mekinc</cp:lastModifiedBy>
  <dcterms:modified xsi:type="dcterms:W3CDTF">2014-05-27T08:13:08Z</dcterms:modified>
  <cp:revision>73</cp:revision>
  <dc:subject/>
  <dc:title>Slide 1</dc:title>
</cp:coreProperties>
</file>